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F250-4D12-4068-9C49-E84D927D8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720E-6B63-48C7-BF78-E6264A31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43C4-AA85-47B1-8162-1474AC953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ABAB-FB49-46CF-AC1F-B3CAA3362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EC0D-57B8-40AF-9A00-37B6C9BBF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ACA8-021D-42CB-9FE8-1E19A737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2CCD-173B-4DD2-B7C7-C95E7B84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4BE0-3107-4AB6-ABFD-23BB9F71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0D14-60E2-47E6-8E57-4E111F3D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B712-C5E5-4FC9-9FCA-AE61E71E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89B9-A80C-45BB-A1ED-59DC2520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2B0A-E81D-427B-805B-3F472D77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0682-6BAD-46D8-B3B2-9F732FBF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8924-CE6D-4EB0-ADE2-F7B1259B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C40D-5E9A-4F62-95F7-ECE34612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ADE5-DFEB-4B54-B7D0-A5420CB17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F0DB-B562-4760-9A4B-0DB6F3C99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5871-6F61-4EFD-8A94-BCC9A998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7E0F-EB3F-471C-8766-575DD3F3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AE24-7F3D-4CA3-8D58-8E1D28E9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4031-54FB-49D9-8790-57BA3357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78A8-B100-453D-BEBC-B7B87703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29D8-6093-4EA0-8822-EB07A959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B3ED-8077-49E4-B26D-2A40CCD9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3B33-D987-4E13-B114-E9D0CF214AD7}" type="slidenum">
              <a:rPr b="0" lang="ar-LB" sz="14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3F5A-85C5-4A43-80FB-48CC26021DCE}" type="slidenum">
              <a:rPr b="0" lang="ar-LB" sz="14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763640" y="4724280"/>
            <a:ext cx="7380360" cy="213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ffffff"/>
                </a:solidFill>
                <a:latin typeface="Tahoma"/>
                <a:cs typeface="????Boutros Rokaa"/>
              </a:rPr>
              <a:t>أعطني يا رب قلبك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76720" y="0"/>
            <a:ext cx="58672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َعْطِنِي يَا رَبُّ قَلْبَكَ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َبْنِي أَنْ أَخْتَارَ حُبَّّكَ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َا قَلْبَ يَسُوعَ إِلَه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َرْغَبُ أَنْ أَتْبَعَكَ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20960" y="0"/>
            <a:ext cx="6288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قَلْبُكَ يَا رَبُّ رَاحَت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ُوَ غِنَايَ هُوَ عُذُوبَت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إِجْذِبْنِي إِلَيْكَ إِلَه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َحْدَكَ أَنْتَ سَعَادَتِ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627280" y="0"/>
            <a:ext cx="6516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َجْهُكَ يَا رَبُّ مَوْطِن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قَلْبُكَ يَا رَبُّ مَسْكِن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َلُمَّ وَوَحِّدْنِي بكَ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َاجْعَلْنِي أَحْيَا لأَجْلِكَ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276720" y="0"/>
            <a:ext cx="58672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َعْطِنِي يَا رَبُّ قَلْبَكَ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َبْنِي أَنْ أَخْتَارَ حُبَّّكَ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َا قَلْبَ يَسُوعَ إِلَه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َرْغَبُ أَنْ أَتْبَعَكَ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627280" y="0"/>
            <a:ext cx="6516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َجْهُكَ يَا رَبُّ مَوْطِن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قَلْبُكَ يَا رَبُّ مَسْكِن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َلُمَّ وَوَحِّدْنِي بكَ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َاجْعَلْنِي أَحْيَا لأَجْلِكَ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76720" y="0"/>
            <a:ext cx="58672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َعْطِنِي يَا رَبُّ قَلْبَكَ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َبْنِي أَنْ أَخْتَارَ حُبَّّكَ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َا قَلْبَ يَسُوعَ إِلَه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َرْغَبُ أَنْ أَتْبَعَكَ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06:33:39Z</dcterms:created>
  <dc:creator>Charbel Azar</dc:creator>
  <dc:description/>
  <dc:language>en-US</dc:language>
  <cp:lastModifiedBy>Charbel Azar</cp:lastModifiedBy>
  <dcterms:modified xsi:type="dcterms:W3CDTF">2006-03-07T21:38:22Z</dcterms:modified>
  <cp:revision>20</cp:revision>
  <dc:subject/>
  <dc:title>Slide 1</dc:title>
</cp:coreProperties>
</file>